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940-3993-428F-94D6-64D91CCC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30E-D01B-41ED-8CFF-7C7CCE9B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BEF3-9433-4927-8BAE-0B8CCED9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D2E-9433-4605-9395-F637253F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9A6D-DC13-485B-BF45-41F02E05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6FD8-32D7-4427-86F0-CE7742F5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A7E8-2922-4830-8952-7C192E8D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D78-551B-41F8-93D8-12EC9842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54C-975C-4BE1-B0B3-32390C35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A61E-2C2E-4647-BDD7-E4B69881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A08-323C-423D-82C1-02C0903C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D4F-30A8-49B5-A1C1-2D7D1AB6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E0D5-9617-4037-860C-B17200EE7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ff"/>
                </a:solidFill>
                <a:latin typeface="Times New Roman"/>
              </a:rPr>
              <a:t>Les TIMERS du P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56386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V1.0  novembre 2007    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                T.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ff"/>
                </a:solidFill>
                <a:latin typeface="Times New Roman"/>
              </a:rPr>
              <a:t>TIMERS  =  périphér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C:\COURS\PIC\TIMER\P252_block_1.gif"/>
          <p:cNvPicPr/>
          <p:nvPr/>
        </p:nvPicPr>
        <p:blipFill>
          <a:blip r:embed="rId1"/>
          <a:stretch/>
        </p:blipFill>
        <p:spPr>
          <a:xfrm>
            <a:off x="228600" y="1219320"/>
            <a:ext cx="6172200" cy="5381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COURS\PIC\TIMER\Pin_252_t0.gif"/>
          <p:cNvPicPr/>
          <p:nvPr/>
        </p:nvPicPr>
        <p:blipFill>
          <a:blip r:embed="rId2"/>
          <a:stretch/>
        </p:blipFill>
        <p:spPr>
          <a:xfrm>
            <a:off x="457200" y="1295280"/>
            <a:ext cx="5048280" cy="2889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COURS\PIC\TIMER\Pin_252_t1.gif"/>
          <p:cNvPicPr/>
          <p:nvPr/>
        </p:nvPicPr>
        <p:blipFill>
          <a:blip r:embed="rId3"/>
          <a:stretch/>
        </p:blipFill>
        <p:spPr>
          <a:xfrm>
            <a:off x="3657600" y="2209680"/>
            <a:ext cx="497196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ff"/>
                </a:solidFill>
                <a:latin typeface="Times New Roman"/>
              </a:rPr>
              <a:t>Les TIMERS du PIC18F2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lang="fr-FR" sz="2800" spc="-1" strike="noStrike">
                <a:solidFill>
                  <a:srgbClr val="0099ff"/>
                </a:solidFill>
                <a:latin typeface="Times New Roman"/>
              </a:rPr>
              <a:t>TIMER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st un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compteur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do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période de l ’horlog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le modulo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eut être programm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 fin de cycle un drapeau (</a:t>
            </a:r>
            <a:r>
              <a:rPr b="0" lang="fr-FR" sz="2800" spc="-1" strike="noStrike">
                <a:solidFill>
                  <a:srgbClr val="0099ff"/>
                </a:solidFill>
                <a:latin typeface="Times New Roman"/>
              </a:rPr>
              <a:t>FLAG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 indique la fin du comptage (</a:t>
            </a:r>
            <a:r>
              <a:rPr b="0" lang="fr-FR" sz="2800" spc="-1" strike="noStrike">
                <a:solidFill>
                  <a:srgbClr val="0099ff"/>
                </a:solidFill>
                <a:latin typeface="Times New Roman"/>
              </a:rPr>
              <a:t>passage du MAX à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PIC de la série 18Fxxx disposent de 4 TI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99ff"/>
                </a:solidFill>
                <a:latin typeface="Times New Roman"/>
              </a:rPr>
              <a:t>Le TIMER 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33520" y="121932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e périphérique peut être utilisé en timer ou en compte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l peut être en mode 8bits ou 16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on horloge peut être interne ou externe (T0CKI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L’horloge externe est active sur front montant ou descenda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Un prédiviseur (Prescaler) peut être appliqué sur les horlo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99ff"/>
                </a:solidFill>
                <a:latin typeface="Times New Roman"/>
              </a:rPr>
              <a:t>Si l’horloge est externe : la pin 4 du PORT A sera utilisée en entrée, dans ce cas le bit 4 de TRISA sera à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ff"/>
                </a:solidFill>
                <a:latin typeface="Times New Roman"/>
              </a:rPr>
              <a:t>Mode du TIMER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914400" y="13716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Times New Roman"/>
              </a:rPr>
              <a:t>Schéma du TIMER 0 en mode 8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14400" y="37339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Times New Roman"/>
              </a:rPr>
              <a:t>Schéma du TIMER 0 en mode 16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C:\COURS\PIC\TIMER\sch8bit_timer0.gif"/>
          <p:cNvPicPr/>
          <p:nvPr/>
        </p:nvPicPr>
        <p:blipFill>
          <a:blip r:embed="rId1"/>
          <a:stretch/>
        </p:blipFill>
        <p:spPr>
          <a:xfrm>
            <a:off x="1219320" y="1828800"/>
            <a:ext cx="6495840" cy="1838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:\COURS\PIC\TIMER\sch16bit_timer0.gif"/>
          <p:cNvPicPr/>
          <p:nvPr/>
        </p:nvPicPr>
        <p:blipFill>
          <a:blip r:embed="rId2"/>
          <a:stretch/>
        </p:blipFill>
        <p:spPr>
          <a:xfrm>
            <a:off x="1143000" y="4191120"/>
            <a:ext cx="6724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99ff"/>
                </a:solidFill>
                <a:latin typeface="Times New Roman"/>
              </a:rPr>
              <a:t>Registres utilisés pour le TIMER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609480" y="1600200"/>
            <a:ext cx="8001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Times New Roman"/>
              </a:rPr>
              <a:t>T0CON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gistre de contrôl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figuration du TIMER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Times New Roman"/>
              </a:rPr>
              <a:t>TMR0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gistre MSB de TIMER 0 en 16 bits  (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En mode 8 bits TMR0H devient TMR0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Times New Roman"/>
              </a:rPr>
              <a:t>TMR0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gistre LSB de TIMER 0 en 16 bit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9ff"/>
                </a:solidFill>
                <a:latin typeface="Times New Roman"/>
              </a:rPr>
              <a:t>TRISA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gistre de direction du port A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i entrée horloge externe du TIMER0 bit 4  à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ff"/>
                </a:solidFill>
                <a:latin typeface="Times New Roman"/>
              </a:rPr>
              <a:t>Registres de contrôle  du  TIMER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4"/>
          <p:cNvGraphicFramePr/>
          <p:nvPr/>
        </p:nvGraphicFramePr>
        <p:xfrm>
          <a:off x="762120" y="1143000"/>
          <a:ext cx="7772400" cy="45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772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7"/>
          <p:cNvGraphicFramePr/>
          <p:nvPr/>
        </p:nvGraphicFramePr>
        <p:xfrm>
          <a:off x="990720" y="1752480"/>
          <a:ext cx="7315200" cy="5105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752480"/>
                    <a:ext cx="73152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ff"/>
                </a:solidFill>
                <a:latin typeface="Times New Roman"/>
              </a:rPr>
              <a:t>Calcu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62120" y="1905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Horloge du T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0"/>
              <p:cNvSpPr txBox="1"/>
              <p:nvPr/>
            </p:nvSpPr>
            <p:spPr>
              <a:xfrm>
                <a:off x="4800600" y="1676520"/>
                <a:ext cx="291924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quart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prescale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Text Box 5"/>
          <p:cNvSpPr/>
          <p:nvPr/>
        </p:nvSpPr>
        <p:spPr>
          <a:xfrm>
            <a:off x="838080" y="3048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Times New Roman"/>
              </a:rPr>
              <a:t>TIMER 0 en mode 8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1"/>
              <p:cNvSpPr txBox="1"/>
              <p:nvPr/>
            </p:nvSpPr>
            <p:spPr>
              <a:xfrm>
                <a:off x="4800600" y="3124080"/>
                <a:ext cx="28954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Tre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Text Box 8"/>
          <p:cNvSpPr/>
          <p:nvPr/>
        </p:nvSpPr>
        <p:spPr>
          <a:xfrm>
            <a:off x="838080" y="4114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Times New Roman"/>
              </a:rPr>
              <a:t>TIMER 0 en mode 16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2"/>
              <p:cNvSpPr txBox="1"/>
              <p:nvPr/>
            </p:nvSpPr>
            <p:spPr>
              <a:xfrm>
                <a:off x="4800600" y="4114800"/>
                <a:ext cx="2895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5536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Tre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ff"/>
                </a:solidFill>
                <a:latin typeface="Times New Roman"/>
              </a:rPr>
              <a:t>Program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WordArt 9"/>
          <p:cNvSpPr txBox="1"/>
          <p:nvPr/>
        </p:nvSpPr>
        <p:spPr>
          <a:xfrm>
            <a:off x="2286000" y="2700360"/>
            <a:ext cx="487692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oir TP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07:50:54Z</dcterms:created>
  <dc:creator>Thierry</dc:creator>
  <dc:description/>
  <dc:language>en-US</dc:language>
  <cp:lastModifiedBy>HP PORTABLE</cp:lastModifiedBy>
  <dcterms:modified xsi:type="dcterms:W3CDTF">2010-09-15T09:48:51Z</dcterms:modified>
  <cp:revision>14</cp:revision>
  <dc:subject/>
  <dc:title>Les TIMERS du PIC</dc:title>
</cp:coreProperties>
</file>